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765B-3BD3-450B-8A3B-949176DF4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EBBA-B8B9-48AF-B8E1-EA852159E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C67F-87D2-4A2F-ADE2-E40CB48CB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DDB6-AD55-4BC1-8C5F-8D1AB6B5D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A9772-37CC-4A09-B0EF-CDD7A9BDA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D4592-F38E-40D1-BBC5-885872183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847E4-6EF6-4F4C-8D35-CAFF1EA4D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A78D7-AABE-442D-B7E1-A3A80FD64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E6E9B-A26C-4FB2-A477-DB5CE609B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DED1A-6D64-4D5A-A8FE-3A976F0DB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553F6-4930-4D6A-98B1-6E80CA16E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9EFE-DCFD-4CBA-B253-6C4B5EF9A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BB790-2F59-4E2A-9F18-0C9CBDB1E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35814-0D9C-45B1-8309-81A5BCD4F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9A4CB-F917-45AF-B3CC-CB10E5594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2B24E-8FF1-446E-BE23-36FEE721A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BA0AF-A0CD-4ABD-889F-8B82638F2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E85A-45FF-4DBB-8A73-FDFE8ACE6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EDBE-EF01-4AA5-B2A4-570C06FD4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2455-948C-4C1B-991A-B34F29EDD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5B80-AA52-44BB-B243-033FE2B5C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50F1-D079-4BFE-A3B6-E1F3CDEEE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4EF1-AF58-4F59-BB81-76DD696C9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51B1-CBDD-467B-971B-17151B802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minispir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minispir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C7237-5CCB-498D-9BC9-475C39200F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minispir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minispir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75A81-9E05-40E5-BA1E-E571F32A4D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scholastic.com/harrypotter/author/" TargetMode="External"/><Relationship Id="rId2" Type="http://schemas.openxmlformats.org/officeDocument/2006/relationships/hyperlink" Target="http://www.scholastic.com/harrypotter/author/" TargetMode="External"/><Relationship Id="rId3" Type="http://schemas.openxmlformats.org/officeDocument/2006/relationships/hyperlink" Target="http://www.scholastic.com/harrypotter/author/" TargetMode="External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scholastic.com/harrypotter/funstuff/reading/index.asp" TargetMode="External"/><Relationship Id="rId2" Type="http://schemas.openxmlformats.org/officeDocument/2006/relationships/hyperlink" Target="http://www.scholastic.com/harrypotter/funstuff/video/index.htm" TargetMode="External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scholastic.com/harrypotter/author/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040" y="533520"/>
            <a:ext cx="772164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221304"/>
                </a:solidFill>
                <a:latin typeface="Comic Sans MS"/>
              </a:rPr>
              <a:t>J.K. ROWLING</a:t>
            </a:r>
            <a:endParaRPr b="0" lang="en-US" sz="6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625760" y="1980720"/>
            <a:ext cx="6400800" cy="36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JK" descr=""/>
          <p:cNvPicPr/>
          <p:nvPr/>
        </p:nvPicPr>
        <p:blipFill>
          <a:blip r:embed="rId1"/>
          <a:stretch/>
        </p:blipFill>
        <p:spPr>
          <a:xfrm>
            <a:off x="2286000" y="1828800"/>
            <a:ext cx="510552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21304"/>
                </a:solidFill>
                <a:latin typeface="Comic Sans MS"/>
              </a:rPr>
              <a:t>Harry Potter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arry just strolled into my head, fully formed.” (J.K. Rowl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in character; Changes throughout the entire series due to events &amp; 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orcerer’s Ston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pg.27 (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realization of being diffe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Goblet of Fir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pg.18 (Shows changes &amp; maturity after 3 years at Hogwar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The Half-Blood Princ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pg.646 (Relationship, deals with hard issues, speaks down to Minister of Magic…changed tremendously from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book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21304"/>
                </a:solidFill>
                <a:latin typeface="Comic Sans MS"/>
              </a:rPr>
              <a:t>PLOT: </a:t>
            </a:r>
            <a:r>
              <a:rPr b="0" lang="en-US" sz="2400" spc="-1" strike="noStrike">
                <a:solidFill>
                  <a:srgbClr val="221304"/>
                </a:solidFill>
                <a:latin typeface="Comic Sans MS"/>
              </a:rPr>
              <a:t>the sequence of the story events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32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ts the plot in the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book; Conflicts in each book that connect and move the plot forward (Engages readers into the life of HP and hooks them on the series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es each book to represent a year at Hogwa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orcerer’s Ston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pg.57 (When Hagrid tells Harry he is a wizard &amp; may attend Hogwar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Prisoner of Azkaba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pg.432 (Alludes to the importance of Sirius in the next boo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Order of the Phoenix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pg.851 (Suggests conflicts to come in the next boo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21304"/>
                </a:solidFill>
                <a:latin typeface="Comic Sans MS"/>
              </a:rPr>
              <a:t>STYLE AND LANGUAGE:  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owling creates a “wizard world,” complete with the history and culture, words, charms, spells, inventions, a sport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aders are engaged and interested in this world-They want to know more about wizards and the characters in this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cellent site for teachers &amp; kids: (Provides a glossary &amp; pronunciation guide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0066"/>
                </a:solidFill>
                <a:uFillTx/>
                <a:latin typeface="Comic Sans MS"/>
                <a:hlinkClick r:id="rId1"/>
              </a:rPr>
              <a:t>http://www.scholastic.com/</a:t>
            </a:r>
            <a:r>
              <a:rPr b="0" lang="en-US" sz="2800" spc="-1" strike="noStrike" u="sng">
                <a:solidFill>
                  <a:srgbClr val="660066"/>
                </a:solidFill>
                <a:uFillTx/>
                <a:latin typeface="Comic Sans MS"/>
                <a:hlinkClick r:id="rId2"/>
              </a:rPr>
              <a:t>harrypotter</a:t>
            </a:r>
            <a:r>
              <a:rPr b="0" lang="en-US" sz="2800" spc="-1" strike="noStrike" u="sng">
                <a:solidFill>
                  <a:srgbClr val="660066"/>
                </a:solidFill>
                <a:uFillTx/>
                <a:latin typeface="Comic Sans MS"/>
                <a:hlinkClick r:id="rId3"/>
              </a:rPr>
              <a:t>/author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-3960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320" y="533520"/>
            <a:ext cx="76201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Sorcerer’s Ston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 pg. 11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Explanation of the Sorting Hat and the different houses at Hogwart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Goblet of Fir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 pg. 2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Insight into curses, history &amp; law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Chamber of Secret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 pg.11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Definition of “mudblood”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Comic Sans MS"/>
              </a:rPr>
              <a:t>The Magnitude of Rowling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INBURG, SCOTLAND (20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0066"/>
                </a:solidFill>
                <a:uFillTx/>
                <a:latin typeface="Times New Roman"/>
                <a:hlinkClick r:id="rId1"/>
              </a:rPr>
              <a:t>http://www.scholastic.com/harrypotter/funstuff/reading/index.as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NDING A SIGNED BOOK TO THE 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0066"/>
                </a:solidFill>
                <a:uFillTx/>
                <a:latin typeface="Times New Roman"/>
                <a:hlinkClick r:id="rId2"/>
              </a:rPr>
              <a:t>http://www.scholastic.com/harrypotter/funstuff/video/index.ht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Comic Sans MS"/>
              </a:rPr>
              <a:t>COOL STUFF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xcellent site for teachers and kids to use: Scholastic K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0066"/>
                </a:solidFill>
                <a:uFillTx/>
                <a:latin typeface="Comic Sans MS"/>
                <a:hlinkClick r:id="rId1"/>
              </a:rPr>
              <a:t>http://www.scholastic.com/harrypotter/author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Glossary, Pronunciation Guide, Games, Posters, Bookmarks, info. &amp; more!!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1304"/>
                </a:solidFill>
                <a:latin typeface="Comic Sans MS"/>
              </a:rPr>
              <a:t>Author of the Widely Famous “Harry Potter” Series: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Harry Potter and the Sorcerer’s St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originally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Philosopher’s Ston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but changed for US public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Harry Potter and the Chamber of Secr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Harry Potter and the Prisoner of Azkab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Harry Potter and the Goblet of Fi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Harry Potter and the Order of the Phoeni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Harry Potter and the Half-Blood Pri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320" y="3708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1760" y="456840"/>
            <a:ext cx="78483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J.K. Rowling,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n Harry Potter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“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idea that we could have a child who escapes from the confines of the adult world and goes somewhere where he has power, both literally and metaphorically, really appealed to me."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21304"/>
                </a:solidFill>
                <a:latin typeface="Comic Sans MS"/>
              </a:rPr>
              <a:t>BIOGRAPHY:</a:t>
            </a:r>
            <a:endParaRPr b="0" lang="en-US" sz="5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ame: Joanne Rowling “Jo”  (The “K” honors her grandmother, Kathleen)  **J.K.-biased boys*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orn near Bristol, England (July 31, 196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 sibling, Dianne “Di”, 23 months youn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reative child-loved to write and tell stories to Di  (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tory, age 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m diagnosis with Multiple Sclerosis when Jo was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udied French at the University of Exeter (south coast of Englan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320" y="-3960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320" y="609120"/>
            <a:ext cx="7620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ongest job was in London with Amnesty International, an organization that campaigns against human rights abuses all over the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 1990, moves to Manchester with boyfri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uring a train ride, the idea of Harry Potter “falls into (her) head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ecember 1990, her mom dies: “changed both my world and Harry's forever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oves to Portugal to “get away,” Job teaching English in a Language Institute: continues to work on no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eets and marries a Portuguese man: Gives birth to daughter, Jessica, in 199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ivorced and living with sister in Edinburgh by the end of 199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380880"/>
            <a:ext cx="7620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tentions to begin teaching ag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aches the “now or never point” and hurries to finish first book and attempt to become publish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urned down by 9 publishers in 1 y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loomsbury Publishing, August 19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998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orcerer’s Ston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released in the 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999, Release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Chamber of Secret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The Prisoner of Azkab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000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Goblet of F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003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Order of the Phoenix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Gives birth to son, Davi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005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Half-Blood Princ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Gives birth to daughter, Mackenzi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ing in 2007, the last HP installment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60912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1304"/>
                </a:solidFill>
                <a:latin typeface="Comic Sans MS"/>
              </a:rPr>
              <a:t>RECOGNITIONS &amp; AWARDS: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Each HP title has been #1 on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The New York Time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USA Toda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, and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Wall Street Journa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 bestseller lis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Hugo Aw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Bram Stoker Aw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Whitbread Award for Best Children's Boo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Half-Blood Princ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set world record for a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  <a:ea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printing  (10.3 million cop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as sold over a QUARTER OF A BILLION books, in 61 languages and over 200 coun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1304"/>
                </a:solidFill>
                <a:latin typeface="Comic Sans MS"/>
              </a:rPr>
              <a:t>Using Rowling in the Classroom: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**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ELEMENTS OF LITERATURE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**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HARACTERIZAT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LO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TYLE &amp; LANGUA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21304"/>
                </a:solidFill>
                <a:latin typeface="Comic Sans MS"/>
              </a:rPr>
              <a:t>CHARACTERIZATION: </a:t>
            </a:r>
            <a:r>
              <a:rPr b="0" lang="en-US" sz="2400" spc="-1" strike="noStrike">
                <a:solidFill>
                  <a:srgbClr val="221304"/>
                </a:solidFill>
                <a:latin typeface="Comic Sans MS"/>
              </a:rPr>
              <a:t>the means by which an author establishes credibility of character (personalities that populate literature)</a:t>
            </a:r>
            <a:r>
              <a:rPr b="0" lang="en-US" sz="4000" spc="-1" strike="noStrike">
                <a:solidFill>
                  <a:srgbClr val="221304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ultidimensional with varied strengths and weaknesses; Grow and change over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owling develops believable, “real” characters with problems and adven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aracters progress with age and maturity throughout the HP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very character can potential be used to teach characterization: Hermonie, Ron, Hagrid, Dumbledore, Ginny, Neville, Draco Malfoy, He-Who-Must-Not-Be-Named…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8T13:12:16Z</dcterms:created>
  <dc:creator>Christiana Rhodes</dc:creator>
  <dc:description/>
  <dc:language>en-US</dc:language>
  <cp:lastModifiedBy>Christiana Rhodes</cp:lastModifiedBy>
  <dcterms:modified xsi:type="dcterms:W3CDTF">2006-04-19T01:56:34Z</dcterms:modified>
  <cp:revision>5</cp:revision>
  <dc:subject/>
  <dc:title>J.K. ROWLING</dc:title>
</cp:coreProperties>
</file>